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581-8F27-4BC5-ACD8-455ADD51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D19-90F8-4CBE-B3B7-AB9744A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1C8-E09C-4332-9D7F-7C3D2142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D7E-8165-4D7B-B7AC-A9C8198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EF3-C96E-483D-9091-452C1C5E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FA2-393C-4395-AF4B-2ACE162C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603-7521-4DD5-9569-DAB54F4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A39-6AF0-4262-B9B1-BC57C8E8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97A-0592-497C-8E23-E8E587F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ECD-DAF7-44C4-943F-3394D7A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C8E-9355-4E4F-B48D-0C5ADE7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534-1114-4C0F-A032-B1E2A56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4e1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531B-1128-4C82-9420-E0B859349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9640" y="3716280"/>
            <a:ext cx="7920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Всероссийский урок (заня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в МБОУ СО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г.Белореченс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Segoe Script"/>
              </a:rPr>
              <a:t>« Здоровые дети -в здоровой семье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p110_75472902_3571750_e3e0ece0ea.jpg"/>
          <p:cNvPicPr/>
          <p:nvPr/>
        </p:nvPicPr>
        <p:blipFill>
          <a:blip r:embed="rId1"/>
          <a:stretch/>
        </p:blipFill>
        <p:spPr>
          <a:xfrm>
            <a:off x="539640" y="260280"/>
            <a:ext cx="7883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В МБОУ СОШ 4 г.Белореченска 7 февраля 2014 года  в рамках урока (занятия)проведены классные часы в 1-11 классах  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«Здоровые дети – в здоровой семье» года  в  рамках акции «Россия, вперёд!», в котором  приняли участие 473 ученика.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 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	</a:t>
            </a: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Проведена эстафета в 1-х классах учителем ФК  Галиной Павловной Юрко  совместно с тренером 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Segoe Script"/>
              </a:rPr>
              <a:t>ЦПР ФК «Краснодар» Белореченского филиала Шрамко Александром Александровиче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Mantazh\Desktop\ОТчёт ежедневный\с 8 по 14\DSC_0328.JPG"/>
          <p:cNvPicPr/>
          <p:nvPr/>
        </p:nvPicPr>
        <p:blipFill>
          <a:blip r:embed="rId1"/>
          <a:stretch/>
        </p:blipFill>
        <p:spPr>
          <a:xfrm>
            <a:off x="395280" y="3068640"/>
            <a:ext cx="4038480" cy="36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Mantazh\Desktop\ОТчёт ежедневный\с 8 по 14\DSC_0308.JPG"/>
          <p:cNvPicPr/>
          <p:nvPr/>
        </p:nvPicPr>
        <p:blipFill>
          <a:blip r:embed="rId2"/>
          <a:stretch/>
        </p:blipFill>
        <p:spPr>
          <a:xfrm>
            <a:off x="4716360" y="306864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Эстафета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Segoe Script"/>
              </a:rPr>
              <a:t>« Здоровые дети -в здоровой семье 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Mantazh\Desktop\ОТчёт ежедневный\с 8 по 14\DSC_0323.JPG"/>
          <p:cNvPicPr/>
          <p:nvPr/>
        </p:nvPicPr>
        <p:blipFill>
          <a:blip r:embed="rId1"/>
          <a:stretch/>
        </p:blipFill>
        <p:spPr>
          <a:xfrm>
            <a:off x="4788000" y="2133720"/>
            <a:ext cx="411480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Mantazh\Desktop\ОТчёт ежедневный\с 8 по 14\DSC_0327.JPG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1:28:26Z</dcterms:created>
  <dc:creator>1</dc:creator>
  <dc:description/>
  <dc:language>en-US</dc:language>
  <cp:lastModifiedBy>Admin</cp:lastModifiedBy>
  <dcterms:modified xsi:type="dcterms:W3CDTF">2014-02-10T19:27:02Z</dcterms:modified>
  <cp:revision>44</cp:revision>
  <dc:subject/>
  <dc:title>Слайд 1</dc:title>
</cp:coreProperties>
</file>